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ED73-2120-4812-B85B-FA5524376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9306-A57A-4CFF-90E9-DD661103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524C-1C98-4CB2-A261-09B6760D9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31F-94B5-450E-9E7D-3A18A349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9B0-5F4E-4D2D-A6EC-DBBB1096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C911-2E46-45AF-80CF-4D680EDA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5243-365B-4413-89F7-DB75D3C03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708F-CFBB-471B-9A56-F5760B60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3E7D-DC50-4977-B1CD-FEB826D7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281-27E5-4D55-8D8E-566A067B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F2E8-DE24-4FA5-B10A-9A8D0644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A1B6-E7C1-4DA1-9FBF-B9FA19D5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400440"/>
            <a:ext cx="2311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F096-79E9-453C-9D28-AD2B727817F0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400440"/>
            <a:ext cx="31366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400440"/>
            <a:ext cx="2311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5B538-AEF9-4BDA-A8BB-32F9A4EDC5D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7099200" y="6400800"/>
            <a:ext cx="2311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ED61-2217-4632-85A8-5170EC4AD51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1734480" y="2060640"/>
            <a:ext cx="686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vironmental Dimens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 the Firm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ny Poli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 &amp; 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4120920" y="597528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in C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rciuma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nul I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stions and Answers – REF 10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Which are policy variab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ownership; growth; product and process design; investm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ich are ownership polic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One Hundred-percent Ownership; Acceptance of Minority Foreign Equity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re for Foreign Equity Interest; Desire for Majority Foreign Equity Interes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exibility in Regard to Foreign Equity Interest; Choice of Foreign Partners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aring Technical Information and Skill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Which are growth polici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Diversification; 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ow many diversification policy 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Geographical diversification ; product diversific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stions and Answers – REF 1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2160" y="9997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 Which are the investment polic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Internationalization; regional specialization size, and the investment of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new" dollar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What does it mean project size poli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Some companies exhibited fixed policies relative to the size of enterpris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ith which they would become associate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09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538200" y="2786040"/>
            <a:ext cx="8915400" cy="19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What did ownership control mean where the management consis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rely of local national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: One could anticipate that in fact control could be assured only so long a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olicies of the firm coincided with the interests of the host govern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of local associat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23:44:46Z</dcterms:created>
  <dc:creator>CST</dc:creator>
  <dc:description/>
  <cp:keywords/>
  <dc:language>en-US</dc:language>
  <cp:lastModifiedBy>Laptop3</cp:lastModifiedBy>
  <dcterms:modified xsi:type="dcterms:W3CDTF">2008-05-22T19:53:28Z</dcterms:modified>
  <cp:revision>259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31033</vt:lpwstr>
  </property>
</Properties>
</file>