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CBBC-DCE3-4B1C-BAB4-66713767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0D1F-23A2-4339-85D1-4187233AF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C5A7-3B2F-41D1-AE71-8D5121B3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53C7-60F3-4406-9F8A-B2FC011B8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F188-E335-4E9B-9969-95DFDDA1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9656-C448-4581-8276-7BA67544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D8C-7C77-4296-9D7E-61EAC628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7BFF-F64C-4553-802A-C16DD354B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D444-446F-41CE-A8C6-779CC8D4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02AB-8663-467F-B3F9-8602D8D5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2DD4-D246-44CC-8F2B-7DD94F674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F5BD-32D0-48A4-91DA-7FC3D86B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95360" y="6400440"/>
            <a:ext cx="231120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7E58-39BD-497F-AADA-A81804CA7486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400440"/>
            <a:ext cx="31366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400440"/>
            <a:ext cx="2311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071B4-BB04-479A-B43C-6CAAC2BA078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6"/>
          <p:cNvSpPr/>
          <p:nvPr/>
        </p:nvSpPr>
        <p:spPr>
          <a:xfrm>
            <a:off x="7099200" y="6400800"/>
            <a:ext cx="23115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48A7B-DC62-4B1B-A9FB-6F67FD449E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Text Box 5"/>
          <p:cNvSpPr/>
          <p:nvPr/>
        </p:nvSpPr>
        <p:spPr>
          <a:xfrm>
            <a:off x="1734480" y="2060640"/>
            <a:ext cx="68619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nvironmental Dimensions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f the Firm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mpany Polic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Q &amp; 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6"/>
          <p:cNvSpPr/>
          <p:nvPr/>
        </p:nvSpPr>
        <p:spPr>
          <a:xfrm>
            <a:off x="4120920" y="5975280"/>
            <a:ext cx="264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stantin C</a:t>
            </a: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îrciuma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ffffff"/>
                </a:solidFill>
                <a:latin typeface="Arial"/>
              </a:rPr>
              <a:t>Anul II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I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br>
              <a:rPr sz="2800"/>
            </a:b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19664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Which are policy variabl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ich are ownership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Which are growth polici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. How many diversification policy ar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. Which are the investment polic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6. What does it mean project size poli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. What did ownership control mean where the management consisted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tirely of local national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Questions and Answers – REF 1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2160" y="999720"/>
            <a:ext cx="89154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452520" y="5214960"/>
            <a:ext cx="8915400" cy="19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6T23:44:46Z</dcterms:created>
  <dc:creator>CST</dc:creator>
  <dc:description/>
  <cp:keywords/>
  <dc:language>en-US</dc:language>
  <cp:lastModifiedBy>Costi Circiumaru</cp:lastModifiedBy>
  <dcterms:modified xsi:type="dcterms:W3CDTF">2008-05-22T20:32:31Z</dcterms:modified>
  <cp:revision>260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8031033</vt:lpwstr>
  </property>
</Properties>
</file>